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8.png" ContentType="image/png"/>
  <Override PartName="/ppt/media/image20.jpeg" ContentType="image/jpeg"/>
  <Override PartName="/ppt/media/image13.jpeg" ContentType="image/jpeg"/>
  <Override PartName="/ppt/media/image3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0833" t="0" r="0" b="0"/>
          <a:stretch/>
        </p:blipFill>
        <p:spPr>
          <a:xfrm>
            <a:off x="0" y="0"/>
            <a:ext cx="9144000" cy="1190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10833" t="0" r="0" b="0"/>
          <a:stretch/>
        </p:blipFill>
        <p:spPr>
          <a:xfrm>
            <a:off x="0" y="1143000"/>
            <a:ext cx="9144000" cy="1190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10833" t="0" r="0" b="0"/>
          <a:stretch/>
        </p:blipFill>
        <p:spPr>
          <a:xfrm>
            <a:off x="0" y="220968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10833" t="0" r="0" b="0"/>
          <a:stretch/>
        </p:blipFill>
        <p:spPr>
          <a:xfrm>
            <a:off x="0" y="335268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10833" t="0" r="0" b="0"/>
          <a:stretch/>
        </p:blipFill>
        <p:spPr>
          <a:xfrm>
            <a:off x="0" y="4524480"/>
            <a:ext cx="9144000" cy="1190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10833" t="0" r="0" b="0"/>
          <a:stretch/>
        </p:blipFill>
        <p:spPr>
          <a:xfrm>
            <a:off x="0" y="5667480"/>
            <a:ext cx="9144000" cy="1190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3332" t="0" r="55836" b="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1/King_Philip_C_by_Revere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c/Peter_Stuyvesant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upload.wikimedia.org/wikipedia/commons/6/6a/William_Penn.png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2/Thanksgiving-Brownscombe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9/Plymouthcolonymap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hapter Three:  Settling the Northern Colonies (1619-17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400800" cy="1752840"/>
          </a:xfrm>
          <a:prstGeom prst="rect">
            <a:avLst/>
          </a:prstGeom>
          <a:noFill/>
          <a:ln w="9360">
            <a:solidFill>
              <a:srgbClr val="fc7e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owerPoint Slides for </a:t>
            </a: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The American Pageant, 12</a:t>
            </a:r>
            <a:r>
              <a:rPr b="0" i="1" lang="en-US" sz="32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structed by Mr. Frec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1080" y="3049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John Winth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607000"/>
            <a:ext cx="6858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Comic Sans MS"/>
              </a:rPr>
              <a:t>We shall be as a city on a hill. The eyes of all people are upon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2869" t="0" r="0" b="0"/>
          <a:stretch/>
        </p:blipFill>
        <p:spPr>
          <a:xfrm>
            <a:off x="4054320" y="1147680"/>
            <a:ext cx="2803680" cy="4338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05120" y="1143000"/>
            <a:ext cx="1981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assachusetts Bay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yal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radical than Ply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ger and more successful than Ply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n meetings a major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1143000"/>
            <a:ext cx="198144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hurch &amp;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men/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enforces God’s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s “animal instinc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stant work e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28800" y="318960"/>
            <a:ext cx="71629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QuillPerpendicularRegular"/>
              </a:rPr>
              <a:t>Covenant The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1295280"/>
            <a:ext cx="624852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enant of Grace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tween Puritan communities and G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cial Covenant” (the elec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tween members of Puritan communities with each 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Required mutual watchfuln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toleration of deviance or disord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priva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12000"/>
          </a:blip>
          <a:srcRect l="4171" t="21430" r="5209" b="2378"/>
          <a:stretch/>
        </p:blipFill>
        <p:spPr>
          <a:xfrm>
            <a:off x="0" y="0"/>
            <a:ext cx="693432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10280" y="228600"/>
            <a:ext cx="19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16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28800" y="318960"/>
            <a:ext cx="71629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QuillPerpendicularRegular"/>
              </a:rPr>
              <a:t>Characteristics of New England Settl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1973160"/>
            <a:ext cx="624816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w mortality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verage life expectancy was 70 years of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y extended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erage 6 children pe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erage age at marri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omen – 22 years o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Men – 27 years o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457200"/>
            <a:ext cx="71629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QuillPerpendicularRegular"/>
              </a:rPr>
              <a:t>Patriarch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469880"/>
            <a:ext cx="670572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uthoritarian male father figures controlled each household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atriarchal ministers and magistrates controlle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urch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gregation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d househol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atriarc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3429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6520" y="212760"/>
            <a:ext cx="7315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Land Division in</a:t>
            </a:r>
            <a:br>
              <a:rPr sz="4000"/>
            </a:b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Sudbury, MA:  1639-16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27400" y="1730520"/>
            <a:ext cx="6207120" cy="474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3049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uritan “Rebel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495680"/>
            <a:ext cx="2438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Roger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495680"/>
            <a:ext cx="335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nne Hutch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2640" y="1143000"/>
            <a:ext cx="26542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248520" y="1143000"/>
            <a:ext cx="223992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5029200"/>
            <a:ext cx="304812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312"/>
              </a:spcBef>
              <a:buSzPct val="1233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eligious toler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312"/>
              </a:spcBef>
              <a:buSzPct val="1233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Separation of church and st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5018040"/>
            <a:ext cx="3504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312"/>
              </a:spcBef>
              <a:buSzPct val="1233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Threatened patriarchal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312"/>
              </a:spcBef>
              <a:buSzPct val="1233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Antinomialism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[predestination fatalist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123" t="1651" r="5210" b="9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114800" y="4267080"/>
            <a:ext cx="762120" cy="6858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22860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A Pequot Village</a:t>
            </a:r>
            <a:br>
              <a:rPr sz="4000"/>
            </a:b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Destroyed, 16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1676520"/>
            <a:ext cx="5105160" cy="4174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828800" y="5943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ystic River Massacre changes Native/English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ing_Philip_C_by_Revere" descr="Image:King Philip C by Reve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752480"/>
            <a:ext cx="3040200" cy="464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22860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King Philip and his War (1675-16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523880"/>
            <a:ext cx="1600200" cy="990720"/>
          </a:xfrm>
          <a:prstGeom prst="wedgeRoundRectCallout">
            <a:avLst>
              <a:gd name="adj1" fmla="val -55356"/>
              <a:gd name="adj2" fmla="val 7468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Americans UN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QuillPerpendicularRegular"/>
              </a:rPr>
              <a:t>English Church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066680"/>
            <a:ext cx="7239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glican = Church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Church but w/out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alvin, the “elect”, &amp;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’s “divine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ed to midd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uritans = “Calvinize” the C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fy religion away from Catholic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s vs. Sinners (elite or o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paratists = broke w/ C of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(they were wicked haaaard co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212760"/>
            <a:ext cx="7467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opulation of the New England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6000"/>
          </a:blip>
          <a:srcRect l="0" t="38937" r="0" b="0"/>
          <a:stretch/>
        </p:blipFill>
        <p:spPr>
          <a:xfrm>
            <a:off x="2362320" y="1662120"/>
            <a:ext cx="594360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18842" t="2882" r="13719" b="716"/>
          <a:stretch/>
        </p:blipFill>
        <p:spPr>
          <a:xfrm>
            <a:off x="1600200" y="0"/>
            <a:ext cx="7543800" cy="683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22640" y="0"/>
            <a:ext cx="615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81080" y="30492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Lombardic Narrow"/>
              </a:rPr>
              <a:t>More Like Later America Than Other Reg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1981080"/>
            <a:ext cx="6324480" cy="44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Economic divers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Large cities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more cosmopolitan cultu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Some slavery [6%-12% of the population]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Ethnic and religious divers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Religious toler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SzPct val="1182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Bread Colonies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1080" y="38088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ombardic Narrow"/>
              </a:rPr>
              <a:t>New Amsterdam, 16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93960" y="1676520"/>
            <a:ext cx="543564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22860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ombardic Narrow"/>
              </a:rPr>
              <a:t>Peter Stuyve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603396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vernor of New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eter_Stuyvesant" descr="Image:Peter Stuyvesa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914400"/>
            <a:ext cx="4136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81080" y="22860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ombardic Narrow"/>
              </a:rPr>
              <a:t>William P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483000" y="1090440"/>
            <a:ext cx="390852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819520" y="60339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e “Holy Experi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482px-William_Penn" descr="Image:William Pen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83000" y="990720"/>
            <a:ext cx="3984480" cy="4952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3198" t="3048" r="3198" b="3048"/>
          <a:stretch/>
        </p:blipFill>
        <p:spPr>
          <a:xfrm>
            <a:off x="2438280" y="1066680"/>
            <a:ext cx="5943600" cy="5486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304920"/>
            <a:ext cx="685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ombardic Narrow"/>
              </a:rPr>
              <a:t>Penn &amp; Native Ameri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1502" r="0" b="5499"/>
          <a:stretch/>
        </p:blipFill>
        <p:spPr>
          <a:xfrm>
            <a:off x="3657600" y="1219320"/>
            <a:ext cx="3789360" cy="5181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>
            <a:lum contrast="6000"/>
          </a:blip>
          <a:srcRect l="21843" t="0" r="22227" b="0"/>
          <a:stretch/>
        </p:blipFill>
        <p:spPr>
          <a:xfrm>
            <a:off x="2666880" y="0"/>
            <a:ext cx="5372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3049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The Mayfl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38242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09880" y="1295280"/>
            <a:ext cx="4238640" cy="23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09680" y="457200"/>
            <a:ext cx="312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ilgr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contrast="6000"/>
          </a:blip>
          <a:srcRect l="2810" t="0" r="0" b="3031"/>
          <a:stretch/>
        </p:blipFill>
        <p:spPr>
          <a:xfrm>
            <a:off x="5710320" y="3352680"/>
            <a:ext cx="30909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934320" y="1828800"/>
            <a:ext cx="1295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7e00"/>
                </a:solidFill>
                <a:latin typeface="QuillPerpendicularRegular"/>
              </a:rPr>
              <a:t>v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241960"/>
            <a:ext cx="304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Purit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304920"/>
            <a:ext cx="71629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QuillPerpendicularRegular"/>
              </a:rPr>
              <a:t>Sources of Puritan Mig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975" t="3059" r="3405" b="2695"/>
          <a:stretch/>
        </p:blipFill>
        <p:spPr>
          <a:xfrm>
            <a:off x="2971800" y="1219320"/>
            <a:ext cx="4800600" cy="53337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2890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William Brad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6000"/>
          </a:blip>
          <a:srcRect l="6897" t="5132" r="6910" b="10001"/>
          <a:stretch/>
        </p:blipFill>
        <p:spPr>
          <a:xfrm>
            <a:off x="3886200" y="1219320"/>
            <a:ext cx="29178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1080" y="411120"/>
            <a:ext cx="6858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The Mayflower Compact</a:t>
            </a:r>
            <a:br>
              <a:rPr sz="4000"/>
            </a:br>
            <a:r>
              <a:rPr b="1" lang="en-US" sz="3200" spc="-1" strike="noStrike">
                <a:solidFill>
                  <a:srgbClr val="d47e00"/>
                </a:solidFill>
                <a:latin typeface="QuillPerpendicularRegular"/>
              </a:rPr>
              <a:t>November 11, 1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14800" y="1752480"/>
            <a:ext cx="4405320" cy="476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hanksgiving-Brownscombe" descr="Image:Thanksgiving-Brownscomb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508040"/>
            <a:ext cx="7429320" cy="4740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52280"/>
            <a:ext cx="6858000" cy="135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7e00"/>
                </a:solidFill>
                <a:latin typeface="QuillPerpendicularRegular"/>
              </a:rPr>
              <a:t>The First Thanksgi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7e00"/>
                </a:solidFill>
                <a:latin typeface="QuillPerpendicularRegular"/>
              </a:rPr>
              <a:t>October 16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41px-Plymouthcolonymap" descr="Image:Plymouthcolonymap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0:33:39Z</dcterms:created>
  <dc:creator>Susan M. Pojer</dc:creator>
  <dc:description/>
  <dc:language>en-US</dc:language>
  <cp:lastModifiedBy>Authorized User</cp:lastModifiedBy>
  <dcterms:modified xsi:type="dcterms:W3CDTF">2007-09-06T20:17:59Z</dcterms:modified>
  <cp:revision>97</cp:revision>
  <dc:subject/>
  <dc:title>The Settlement of New England</dc:title>
</cp:coreProperties>
</file>